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jep3.wav" ContentType="audio/x-wav"/>
  <Override PartName="/ppt/media/Jeopardy.wav" ContentType="audio/x-wav"/>
  <Override PartName="/ppt/media/APPLAUSE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303e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2692-C5BB-4013-B0DD-521C1A0A2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B947-4297-4791-9ECD-910EAA449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12B0-69B8-4645-B2F4-69BB383D7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E463-C018-4A8D-8A75-C2F54A8EA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26E5-6810-4337-BC6E-0EB8D0C22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E560-3C7E-4B8B-BC5B-528F6A250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B025-8FE2-4DC0-9937-59E042FB4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0022-3E85-4399-AF12-68F7E22BE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C8B8-0675-4CB2-87C0-E7C6F3E99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3377-17A0-4995-B6B6-98D728DCB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7F5A-5CE8-4D9E-A548-799DCF2FE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6190-DB31-4541-A137-0543D3886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B560-3ABA-470E-A316-479209A9F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04FA-EA61-457D-9606-0C7868DEE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4589-80AC-4597-9C50-54A0555D7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02A1-C9BE-4566-8500-8D7A40A40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06D4-E11C-4412-92AB-A9EE80ED4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A7C1-E0C7-4FFD-A136-1B037826E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89A2-1FF2-4013-9378-1E32172EF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3743-97CD-497E-A282-F10FF709F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F415-7FA9-48D2-A4E5-EE1140E5D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ED36-51EE-44D6-B493-571511CF7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11A1-3A99-4976-95B3-5FBD91BCE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8689-336B-4350-979A-1B568CE53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852B-96A4-463F-990D-6F5CC6F00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2308-1F2D-4BE4-BD65-A0779B756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A40A-DFFC-4745-A41D-FE2122DEE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2FC6-19DA-4847-94FF-D0C4AF073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06A8-CC79-4BC1-B270-13AF8855C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B8BD-A390-4F35-9EA2-64D03A2C2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5533-6F5A-43CC-9A48-3BD7C6E21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B58E-BF6B-4E0E-8BFA-7E622D038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D064-E725-4C6D-8B85-FB4BD172A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F089-B46E-45CF-9782-94E90388C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D8A3-8053-4274-BA6D-FB1962EC3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1029-26A8-43D5-8C89-0E9E767DB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929F-61C7-4580-92EB-D7D721BDC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A520-7579-45C0-9C23-D1C93C7F6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C815-9241-429A-8544-F529A32E9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631F-9320-43E2-B998-123D47FD0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810F-C9A5-4335-99BF-438613705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D16D-D529-456D-9079-68651CBCE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419A-A9E5-4A09-BAD7-AA6ED5F78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9161-3543-485C-851B-81C544B4D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3B59-66FF-469E-BE8C-49EC43691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A11F-81A4-4C63-872F-8C481F8F0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783D-2AD0-419F-9C2D-651C6C8E7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3F06-32F9-432B-B842-B86074C70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342C-B820-472D-8468-49136C4C4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96E8-C474-432B-84D9-9C1DD2E78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8358-79FF-437A-8C23-5CABE250D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A6A4-D95A-4735-8AA3-9F1856BB4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5589-2423-4DE5-9077-B823E29E7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277A-4997-4529-AC39-022D0D744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ACD5-080A-4693-81E1-08973A8D6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8DCB-4767-4368-ADB6-A29DAE95D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5FBF-FC0E-45F8-8478-A9C425255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878B-AE0D-43B3-A85C-C363B0D9C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5461-CFF1-4281-A006-87E672673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F9A6-1358-4EA7-8FE2-0DB29E5DC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4092-803C-46FB-81E9-C68112C61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1142-A997-42E0-B0DB-E2A29C97B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9830-F6AA-4977-963B-8DFD93CD1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9205-02D3-4EE0-B47D-680062EFB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4A75-83EB-497A-9CAF-37DA31FDB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DD54-DFAE-4033-8469-6B0ED6499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470E-3657-4B1C-934D-093FD7E52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D4E7-7AA0-4D4B-9827-850ED350C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94D7-C1D9-48FD-B31F-674C2E7D8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C9E3-F187-4A20-A2F4-E88E2C0F4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6B81-DC0A-4A26-ADFA-260D8ABA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F99C-1868-4E95-B804-B91243FF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4E08-5B31-4469-8DC7-BF060BF5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F70E-C727-409E-A4A0-C4AC6829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5E4-79BF-41EE-B7BC-FC15D52E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B0C8-51FD-40A0-ADBB-0E0B2557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DB0-16A4-47EE-B6CF-8B7FBEF1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6B0-B694-4464-A423-031845B1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E1C4-1C2E-4094-8DFA-8B1E48FA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7B53-D43D-49E1-A670-1D6C985A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11D1-C50F-4AC2-925B-5FE0FF37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8C1-A925-41B6-A57C-F04EC148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303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37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9A09-DB4D-4BA9-96D1-AE7628CD048A}" type="slidenum">
              <a:rPr b="0" lang="en-US" sz="1200" spc="-1" strike="noStrike">
                <a:solidFill>
                  <a:srgbClr val="08376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" Target="slide15.xml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" Target="slide25.xml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slide" Target="slide36.xml"/><Relationship Id="rId11" Type="http://schemas.openxmlformats.org/officeDocument/2006/relationships/image" Target="../media/image3.png"/><Relationship Id="rId12" Type="http://schemas.openxmlformats.org/officeDocument/2006/relationships/image" Target="../media/image2.png"/><Relationship Id="rId13" Type="http://schemas.openxmlformats.org/officeDocument/2006/relationships/slide" Target="slide46.xml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slide" Target="slide56.xml"/><Relationship Id="rId17" Type="http://schemas.openxmlformats.org/officeDocument/2006/relationships/image" Target="../media/image3.png"/><Relationship Id="rId18" Type="http://schemas.openxmlformats.org/officeDocument/2006/relationships/image" Target="../media/image2.png"/><Relationship Id="rId19" Type="http://schemas.openxmlformats.org/officeDocument/2006/relationships/slide" Target="slide7.xml"/><Relationship Id="rId20" Type="http://schemas.openxmlformats.org/officeDocument/2006/relationships/image" Target="../media/image3.png"/><Relationship Id="rId21" Type="http://schemas.openxmlformats.org/officeDocument/2006/relationships/image" Target="../media/image2.png"/><Relationship Id="rId22" Type="http://schemas.openxmlformats.org/officeDocument/2006/relationships/slide" Target="slide17.xml"/><Relationship Id="rId23" Type="http://schemas.openxmlformats.org/officeDocument/2006/relationships/image" Target="../media/image3.png"/><Relationship Id="rId24" Type="http://schemas.openxmlformats.org/officeDocument/2006/relationships/image" Target="../media/image2.png"/><Relationship Id="rId25" Type="http://schemas.openxmlformats.org/officeDocument/2006/relationships/slide" Target="slide27.xml"/><Relationship Id="rId26" Type="http://schemas.openxmlformats.org/officeDocument/2006/relationships/image" Target="../media/image3.png"/><Relationship Id="rId27" Type="http://schemas.openxmlformats.org/officeDocument/2006/relationships/image" Target="../media/image2.png"/><Relationship Id="rId28" Type="http://schemas.openxmlformats.org/officeDocument/2006/relationships/slide" Target="slide38.xml"/><Relationship Id="rId29" Type="http://schemas.openxmlformats.org/officeDocument/2006/relationships/image" Target="../media/image3.png"/><Relationship Id="rId30" Type="http://schemas.openxmlformats.org/officeDocument/2006/relationships/image" Target="../media/image2.png"/><Relationship Id="rId31" Type="http://schemas.openxmlformats.org/officeDocument/2006/relationships/slide" Target="slide48.xml"/><Relationship Id="rId32" Type="http://schemas.openxmlformats.org/officeDocument/2006/relationships/image" Target="../media/image3.png"/><Relationship Id="rId33" Type="http://schemas.openxmlformats.org/officeDocument/2006/relationships/image" Target="../media/image2.png"/><Relationship Id="rId34" Type="http://schemas.openxmlformats.org/officeDocument/2006/relationships/slide" Target="slide58.xml"/><Relationship Id="rId35" Type="http://schemas.openxmlformats.org/officeDocument/2006/relationships/image" Target="../media/image3.png"/><Relationship Id="rId36" Type="http://schemas.openxmlformats.org/officeDocument/2006/relationships/image" Target="../media/image2.png"/><Relationship Id="rId37" Type="http://schemas.openxmlformats.org/officeDocument/2006/relationships/slide" Target="slide9.xml"/><Relationship Id="rId38" Type="http://schemas.openxmlformats.org/officeDocument/2006/relationships/image" Target="../media/image3.png"/><Relationship Id="rId39" Type="http://schemas.openxmlformats.org/officeDocument/2006/relationships/image" Target="../media/image2.png"/><Relationship Id="rId40" Type="http://schemas.openxmlformats.org/officeDocument/2006/relationships/slide" Target="slide19.xml"/><Relationship Id="rId41" Type="http://schemas.openxmlformats.org/officeDocument/2006/relationships/image" Target="../media/image3.png"/><Relationship Id="rId42" Type="http://schemas.openxmlformats.org/officeDocument/2006/relationships/image" Target="../media/image2.png"/><Relationship Id="rId43" Type="http://schemas.openxmlformats.org/officeDocument/2006/relationships/slide" Target="slide29.xml"/><Relationship Id="rId44" Type="http://schemas.openxmlformats.org/officeDocument/2006/relationships/image" Target="../media/image3.png"/><Relationship Id="rId45" Type="http://schemas.openxmlformats.org/officeDocument/2006/relationships/image" Target="../media/image2.png"/><Relationship Id="rId46" Type="http://schemas.openxmlformats.org/officeDocument/2006/relationships/slide" Target="slide40.xml"/><Relationship Id="rId47" Type="http://schemas.openxmlformats.org/officeDocument/2006/relationships/image" Target="../media/image3.png"/><Relationship Id="rId48" Type="http://schemas.openxmlformats.org/officeDocument/2006/relationships/image" Target="../media/image2.png"/><Relationship Id="rId49" Type="http://schemas.openxmlformats.org/officeDocument/2006/relationships/slide" Target="slide50.xml"/><Relationship Id="rId50" Type="http://schemas.openxmlformats.org/officeDocument/2006/relationships/image" Target="../media/image3.png"/><Relationship Id="rId51" Type="http://schemas.openxmlformats.org/officeDocument/2006/relationships/image" Target="../media/image2.png"/><Relationship Id="rId52" Type="http://schemas.openxmlformats.org/officeDocument/2006/relationships/slide" Target="slide60.xml"/><Relationship Id="rId53" Type="http://schemas.openxmlformats.org/officeDocument/2006/relationships/image" Target="../media/image3.png"/><Relationship Id="rId54" Type="http://schemas.openxmlformats.org/officeDocument/2006/relationships/image" Target="../media/image2.png"/><Relationship Id="rId55" Type="http://schemas.openxmlformats.org/officeDocument/2006/relationships/slide" Target="slide11.xml"/><Relationship Id="rId56" Type="http://schemas.openxmlformats.org/officeDocument/2006/relationships/image" Target="../media/image3.png"/><Relationship Id="rId57" Type="http://schemas.openxmlformats.org/officeDocument/2006/relationships/image" Target="../media/image2.png"/><Relationship Id="rId58" Type="http://schemas.openxmlformats.org/officeDocument/2006/relationships/slide" Target="slide21.xml"/><Relationship Id="rId59" Type="http://schemas.openxmlformats.org/officeDocument/2006/relationships/image" Target="../media/image3.png"/><Relationship Id="rId60" Type="http://schemas.openxmlformats.org/officeDocument/2006/relationships/image" Target="../media/image2.png"/><Relationship Id="rId61" Type="http://schemas.openxmlformats.org/officeDocument/2006/relationships/slide" Target="slide31.xml"/><Relationship Id="rId62" Type="http://schemas.openxmlformats.org/officeDocument/2006/relationships/image" Target="../media/image3.png"/><Relationship Id="rId63" Type="http://schemas.openxmlformats.org/officeDocument/2006/relationships/image" Target="../media/image2.png"/><Relationship Id="rId64" Type="http://schemas.openxmlformats.org/officeDocument/2006/relationships/slide" Target="slide42.xml"/><Relationship Id="rId65" Type="http://schemas.openxmlformats.org/officeDocument/2006/relationships/image" Target="../media/image3.png"/><Relationship Id="rId66" Type="http://schemas.openxmlformats.org/officeDocument/2006/relationships/image" Target="../media/image2.png"/><Relationship Id="rId67" Type="http://schemas.openxmlformats.org/officeDocument/2006/relationships/slide" Target="slide52.xml"/><Relationship Id="rId68" Type="http://schemas.openxmlformats.org/officeDocument/2006/relationships/image" Target="../media/image3.png"/><Relationship Id="rId69" Type="http://schemas.openxmlformats.org/officeDocument/2006/relationships/image" Target="../media/image2.png"/><Relationship Id="rId70" Type="http://schemas.openxmlformats.org/officeDocument/2006/relationships/slide" Target="slide62.xml"/><Relationship Id="rId71" Type="http://schemas.openxmlformats.org/officeDocument/2006/relationships/image" Target="../media/image3.png"/><Relationship Id="rId72" Type="http://schemas.openxmlformats.org/officeDocument/2006/relationships/image" Target="../media/image2.png"/><Relationship Id="rId73" Type="http://schemas.openxmlformats.org/officeDocument/2006/relationships/slide" Target="slide13.xml"/><Relationship Id="rId74" Type="http://schemas.openxmlformats.org/officeDocument/2006/relationships/image" Target="../media/image3.png"/><Relationship Id="rId75" Type="http://schemas.openxmlformats.org/officeDocument/2006/relationships/image" Target="../media/image2.png"/><Relationship Id="rId76" Type="http://schemas.openxmlformats.org/officeDocument/2006/relationships/slide" Target="slide23.xml"/><Relationship Id="rId77" Type="http://schemas.openxmlformats.org/officeDocument/2006/relationships/image" Target="../media/image3.png"/><Relationship Id="rId78" Type="http://schemas.openxmlformats.org/officeDocument/2006/relationships/image" Target="../media/image2.png"/><Relationship Id="rId79" Type="http://schemas.openxmlformats.org/officeDocument/2006/relationships/slide" Target="slide34.xml"/><Relationship Id="rId80" Type="http://schemas.openxmlformats.org/officeDocument/2006/relationships/image" Target="../media/image3.png"/><Relationship Id="rId81" Type="http://schemas.openxmlformats.org/officeDocument/2006/relationships/image" Target="../media/image2.png"/><Relationship Id="rId82" Type="http://schemas.openxmlformats.org/officeDocument/2006/relationships/slide" Target="slide44.xml"/><Relationship Id="rId83" Type="http://schemas.openxmlformats.org/officeDocument/2006/relationships/image" Target="../media/image3.png"/><Relationship Id="rId84" Type="http://schemas.openxmlformats.org/officeDocument/2006/relationships/image" Target="../media/image2.png"/><Relationship Id="rId85" Type="http://schemas.openxmlformats.org/officeDocument/2006/relationships/slide" Target="slide54.xml"/><Relationship Id="rId86" Type="http://schemas.openxmlformats.org/officeDocument/2006/relationships/image" Target="../media/image3.png"/><Relationship Id="rId87" Type="http://schemas.openxmlformats.org/officeDocument/2006/relationships/image" Target="../media/image2.png"/><Relationship Id="rId88" Type="http://schemas.openxmlformats.org/officeDocument/2006/relationships/slide" Target="slide64.xml"/><Relationship Id="rId89" Type="http://schemas.openxmlformats.org/officeDocument/2006/relationships/image" Target="../media/image3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4.png"/><Relationship Id="rId98" Type="http://schemas.openxmlformats.org/officeDocument/2006/relationships/oleObject" Target="../embeddings/oleObject1.bin"/><Relationship Id="rId99" Type="http://schemas.openxmlformats.org/officeDocument/2006/relationships/slide" Target=""/><Relationship Id="rId100" Type="http://schemas.openxmlformats.org/officeDocument/2006/relationships/image" Target="../media/image5.png"/><Relationship Id="rId101" Type="http://schemas.openxmlformats.org/officeDocument/2006/relationships/image" Target="../media/image6.png"/><Relationship Id="rId102" Type="http://schemas.openxmlformats.org/officeDocument/2006/relationships/slideLayout" Target="../slideLayouts/slideLayout1.xml"/><Relationship Id="rId10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millili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tric unit used to measure distance from Birmingham to Tuscaloo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kilome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ed to measure large volu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cubic meter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determine temper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thermome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accurately measure the volume of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graduated cyclind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produce a flame using 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000" spc="-1" strike="noStrike">
                <a:solidFill>
                  <a:srgbClr val="21b2c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produce a flame using g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measure and dispense small amounts of liqu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dropp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view nonliving specim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n electron microscop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am conducting a lab that involves chemicals.  I need 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27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safety goggles/glass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had an accident in the lab.  The next step is to  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inform the teach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am soaked in a chemical.  I must 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7200" spc="-1" strike="noStrike">
              <a:solidFill>
                <a:srgbClr val="02303e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HURRY to safety show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elp Me - 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smell a chemical I should use 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wafting metho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oes PASS stand f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295280" y="1981080"/>
            <a:ext cx="6324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ll the p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im the nozz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queeze the hand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weep at base from sid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s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step in scientific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observ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is a hypothesis usefu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when it can be test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hat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hat Can 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Use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Help Me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nvesti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Exper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k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220" descr="TITLE"/>
          <p:cNvPicPr/>
          <p:nvPr/>
        </p:nvPicPr>
        <p:blipFill>
          <a:blip r:embed="rId101"/>
          <a:stretch/>
        </p:blipFill>
        <p:spPr>
          <a:xfrm>
            <a:off x="2666880" y="228600"/>
            <a:ext cx="3678480" cy="49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thod used by scientist to gather information and answer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scientific meth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hypothesis is based on 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or knowledge or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epted as true.  Data proven many ti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theo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sting the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n experi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ard for compar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control group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-53352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iving numbers mea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nges during experi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variabl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rols allow scientist to t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variabl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pendent variables depend on 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independent variabl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hree types of grap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line, pie, and bar graph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ows change over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line grap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Uni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es more than one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bar graph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onents must equal 10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Circle or Pie Grap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played on grap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dat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LP ME!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65120" y="640080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371600" y="295596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heat a test tube over an open flame, one should hold the test tu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371600" y="295596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t an angle away from peo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2610000" y="640080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se units used in SI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Meter, Gram, and Li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ubic centimeter equals 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lrobinson</cp:lastModifiedBy>
  <dcterms:modified xsi:type="dcterms:W3CDTF">2008-06-17T17:11:14Z</dcterms:modified>
  <cp:revision>60</cp:revision>
  <dc:subject/>
  <dc:title>No Slide Title</dc:title>
</cp:coreProperties>
</file>